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85B-80E8-4935-8705-39E9DBDC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29A-3E02-4697-BB19-56B0C6ED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79ADB-D083-4D47-9812-AA3E205C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99D7F-CA2F-409A-95F1-6C1A5C1D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229FB-AC95-4BD1-A26F-AD62CE5C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2D69A-2128-4A9A-AABC-9E66A92B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37C4E-DFDE-47E5-99D8-06990C0B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0F2F31-20B4-4DBF-B21D-8AF25BC1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B580D-0F04-41CE-852A-B6987360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C0012-3A95-4F4D-BF16-8585061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F9DD9-6826-45C2-B4A6-4DDF0A94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2FDE3-8CA4-49BE-B0C4-B2B0D5C2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EAA-B14D-4A0E-B936-AAF62B6B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1DD69-38CD-4171-B377-74D36D2C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344B9-6406-4077-8447-51A8D965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37AE9-EA0E-4C6C-A489-FD3A8A81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359FC-FA73-4C74-B63A-9C8ABB63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0444C-041F-40C4-A0C2-F873C24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E25A0-F318-4E7D-8C2F-F96F6741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D5DC7-09E4-45B0-B0CF-DAB063CE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7204B-B734-4F2E-9FC0-9635F57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5ACDD-1342-42FC-A164-CB7C7B77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57D5-4760-40B0-B750-6D31F787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9BC-6E10-4C76-9BEA-9219C394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F2C52-4FA2-4328-9B08-3BF9401D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D8113-0BAF-4600-8313-F5CCE2D1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2506E-BD2F-4F82-B3B7-416B846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5C1F-9C3A-4920-BFBC-90E47893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FA346-6665-4A96-BA77-273C1D47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C129-C1AA-421D-BF23-17FBCCA4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4D5CB-79C3-4B37-91A7-A4AEFD4F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AA515-C197-4151-A149-88E813E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FFF2-1436-4E91-92EA-3179A86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B4D7C-4FAE-473F-B7C1-38FEB04E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A3F-AB58-4AAE-9933-9040AD7B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5F758-D3AE-4C52-B4EC-EAEC25E9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28D1A-08B8-44B2-94C8-E90F0650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C5995-7B0C-45D1-84EC-5F301A0D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D491F5-A45D-4E96-ABA0-DD5973E2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68C2D-EB53-49E4-9061-E865DE6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2E297-7C90-4356-88FB-749EB0FD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99D78-3612-4528-A5DC-736577EFD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F8C782-DE83-4385-A621-D72DCF02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E42A5-416C-4D46-975C-73F25603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13216-B69F-438A-90A9-D43FF449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4E7A-8562-4728-A2A8-920C6136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68C25-54F2-4EC4-851A-4711A9E1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23FD3-362D-4D88-9555-101B9CEA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4FAC4-E286-4C87-A0FD-4718972F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E746E-69C7-4890-928C-DB698211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88F79-E3BD-4F18-B30A-5879E81B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FB39D-92A3-4C1B-896B-456A29F4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D841DB-85C9-406F-96F2-F3D9A94B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4271A5-7D98-4564-B178-FA2C4130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58DDFE-EE7F-411E-BD16-DC09A000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9E2A5-0C60-41D5-8022-7F597C58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00BD-DFFA-4C29-A922-9D3C6612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C2B78-306F-45E1-803B-E952A498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D5B5A-3540-4004-A0D3-EF7F38E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37F70-C865-47DC-9324-D2834251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856E1-645B-4799-A3E2-0ECA7D4B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512F16-DCD3-4AD3-A2F6-84876A5E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9A7EB-A27B-4D73-AC29-F566C2C0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7FB57-CC57-41F7-ABED-1FB8BAEC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9696E-5EB0-4FEA-8EFB-724C6AB7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B179A-349F-4E2E-BEF3-ED8A1505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80C09-2939-4F7C-A054-2A3B162E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9A4B-D171-4B30-8F41-25CD9370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6CB66-13DF-4142-8614-57388A073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E7A20-1DA6-4475-8C7A-5AE4A4E7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E78CED-D183-4FD6-A446-DA3984F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73000-9A60-41BD-8FCC-A0C2B453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92BDC3-6375-4D2C-AFDC-4C296954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1E38C1-51BA-4FCF-AB52-94E563EA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73BFE3-DED1-4315-BA68-30D7A81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357B5-5B63-4040-AF27-EB46FB80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BAE83-EF59-46E0-830A-A561002F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239719-7221-4089-899D-0776D7B9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3828-C4C2-4B47-931F-320176D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C7C9E-6B92-4F3A-A0E5-FAACA73E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84E581-1E7D-481D-A40A-928025CD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E77B1-314B-4395-9E3D-299D245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8E4B11-20BE-4F62-816D-D683E395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EF524-C49E-4D00-8679-D7DF9B50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C05C5-428C-4654-BF3C-D1F6BDF2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DE725-6080-4391-BC23-965ECD2E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1AE56-15C2-43E7-8AFC-7CC663C4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2E104-C205-4EAB-B653-5650A33C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50B22-A046-473D-8CB4-F17C487D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753B-2947-4C00-ACAD-0F1B2A8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429AE5-E1F0-42B6-8EE7-90311F3D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2978DD-0C80-463C-A43D-E1468AB1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C65306-7BC2-44DC-963E-AFCB8DEC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9CAAC0-E829-4F89-A440-52157AB9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809B0D-867A-4374-9757-ED57DE9C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D62704-E783-405B-AB84-BA4F499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5A072-60EE-4233-9D3F-5A657741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C323DB-98B4-4DCC-BCDE-F181CEB7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681A6-9F3C-4815-8721-396B2B00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0D42F-22FA-47FF-A028-6DC934A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E7D0-3CBA-497C-B618-D8E517EA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5F1508-C3AA-4E5A-8073-051EB411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292C0-24D6-44A4-9D3D-35F18DCA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DF55C0-CD0A-43FB-AC32-C4F6BFF3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C7E91-E291-4892-8736-E17AF6AF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4FA982-DDAE-4DD2-A79A-0C0C4AD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242C26-35DA-4873-BF56-76F4C95E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7332C-5CBE-4C67-BE27-993E5842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69263B-4041-41D3-A9AC-FCA58CC4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90883D-C61B-4416-AA60-45660B6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81AEC3-A5E6-4D37-87FB-ADF9FE54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8E50-11FA-41B3-83E5-1ED20E63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2FA3-EB1E-4A0D-83E9-2E4936F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3D6A0-60FA-4409-9D66-C9EBFFB5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2EC06F-D843-4BE8-BD22-2EBE9127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4302E0-4162-4884-8981-A45DF4CD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68335-A33F-48B6-90FA-AB3A07B9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43078-3534-4B68-9941-F7B5EBD5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07618-229F-4207-8AAF-E83D1C2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F18C1-D25A-4661-8498-FE1601C4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92AC1A-AA55-442C-B8F5-4812C6CB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328DB-27A4-4D7F-8F65-23ECAA2A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FA13B-7392-48F8-AB9A-128A088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B01B-91DA-4149-B356-506ABBF9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524022-0498-4E0E-8F17-B401BCEA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2F26D8-1740-4F40-A429-6362883A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9333E5-8ABB-4E10-B50C-D874007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8442E-6C89-4952-B0A2-D64D5675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8722F7-3E5A-419A-AAE6-61F66E7A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4FAFD7-B46B-42EC-94C8-517BA810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F118E-A6AC-44F3-8626-F846E0D8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F2C30E-01A8-4000-9766-B38E8B06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424F90-399C-47DC-AD27-00D5A1EF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85DA2-7AEA-4A58-BC35-40089F98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DC10-C539-46AA-BDF8-8A3DE2A3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135E22-8BBB-4B7B-9E34-C302269F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B6B28B-3E65-4788-94F8-FC49AAD7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0556C5-2DAF-4D81-9FA9-08E27DBD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350087-FFAC-45C7-A737-99CB3A5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5A0E57-C12F-41E7-B6C3-8A981415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35A18D-65C3-4B6C-811E-82F715EF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609670-84E9-43A6-9A03-4773298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724D0-804A-4503-8DFA-0608A83A2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09A6B1-EC82-4E2F-9449-BB6B308B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5EE92A-F3C1-4A3C-95C6-DFE06F0A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44509-2EC3-47D8-894F-5AE3ACB2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95775B-8D12-4F74-93A2-70419C84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9836C5-5654-4BB9-8522-5B9726DD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4DA92-5036-4EEE-A9FF-835975E7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24DCC0-9043-48A1-B1B2-14353459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A0FF2-83D8-449B-A89C-08DFEE76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96083-F0B5-4237-8042-6D1AE95F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8BACC-F1E1-47CD-96C9-037AB1B2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F038F-589A-42AC-9113-E31195F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63284-869C-47A0-98E6-9211C8F3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4473D-8B57-47B9-AC74-35798DE4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0FA4-C125-477C-8B57-DC97DF3B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B8A192-9BAF-4D19-91FC-7AE6F06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492909-7736-49BD-9A99-F3AF0F8E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A2BBE4-35C8-444F-B975-BC50E40F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AF6989-54C5-47D5-94D7-BAD7A4CC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580543-FB83-4F4A-A361-A25B7F1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05F2E-5366-4C77-BB76-952A474D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F521AB-44F4-4CA7-B0C3-C51D4E7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B79E29-E970-4E05-97FE-AA7D45F3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3F610B-0D66-49D4-ABA6-7EC5256B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51640-C7D9-45F7-892B-072D99C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ACEE-F458-4DE6-9966-C150EF4A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DF636E-A603-4C5A-857A-7DEFB1F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5091CC-1F5F-43AB-8541-368CA71D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52FE80-6DEC-4C8A-8677-B20D0F20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BD692-E8A9-4C58-B416-6551ABB5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D47A00-55D3-4938-B1EF-CA2BB9DA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92ABF5-924F-40E5-BE34-8897C79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C49EB9-E842-496B-9CDB-AB342A95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C2E445-2A87-4CC6-8A54-FDC7C3A8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1F3D33-8D7D-4BB7-9FAB-597DEBCB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3584BD-C557-42F9-A559-C182B9F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7ABC-A616-49E1-AD44-8DA29348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A6BCE5-F80A-4AD7-BA11-ED7E8CC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6078A-CBE8-4EA5-8F72-3972544C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48453-0B6F-4893-AC67-82D73333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F2DB6-ED86-4F23-BDCA-AB08675A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957992-AEC6-4311-B372-A9F83413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358BFE-579B-45A9-91BA-34254F67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D2EFF5-D8D7-47F9-B363-82997AE4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2C6A8D-0F0B-462A-B51B-DE90A770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B9E57-8856-4671-833A-80F710FC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660F72-DC0F-4B5C-BD95-5DD760B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FCE72-A636-4074-A9BD-8BEABD04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DEF0C-CA34-453A-A0CA-7C18204C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EB2C66-D76E-4DE9-9260-5B06080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E36C09-B772-45C8-8BE9-C7814366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EB0254-1423-40F4-B758-CC3B4B5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0C392-0446-4B6F-8B6B-981D3D68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FA97BB-BE3F-4662-96D1-06AB24E7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6CD5C-22CF-4912-B0F3-4197BEA9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50A1A8-596A-4148-9649-1C88AD17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362AC6-8C5B-45D8-B735-8BB17FB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877451-D679-43AC-B24A-FC3CFC5C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A256-C451-4595-BE36-343E4EDF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B079CF-6CE0-47C7-9BEF-6439E25AA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B72BE7-957A-4E80-ABCF-1073255D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F16913-514D-46E0-A8B8-AED7DA6F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4F1AD5-B7EF-4C05-9D6D-E6DEE8C4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52140-1D4C-45F8-ACF9-F971735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E576C9-D2B1-4E9C-A4E7-0D28DE81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EC6BD8-AF84-4EEC-BFFF-3696B59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0806AC-79AF-48BD-B811-18303C8E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E9C6AA-6501-4D73-B8C5-23E9D380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08DB34-3969-49AB-874F-EE811ED2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48A33-062C-4147-BFB6-9B794C36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4F1337-0B80-4094-B9A3-C50609CA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EC129D-6422-4361-AF09-1798F916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4011F3-2795-48C1-AEF5-87C4C085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68C79F-5775-4ACF-B2CD-E31F461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991813-F7D1-4EB8-8A67-614BD8AAA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5E8162-7A2D-49C5-953C-B26E7D72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E5E438-AF53-44FB-ACBD-DD466BD8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1F0679-B040-4B73-8B1E-29FD779D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496DF7-4146-4D7F-9623-F674701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86FA33-7CC3-4FCF-9DA7-06EA31DD6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5F1E-88ED-442C-8C05-3262CA45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8630-52C4-4EA8-A343-93E38692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90CF99-03DB-4349-B23C-611158EE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7B89E4-448B-4C9F-8F56-1B7BF1FD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B8C017-82D9-45CE-A7F9-0AB888C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2B02C-627F-456D-833D-4475E638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A9693D-E3D6-4632-A42E-5E6983BE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878CD6-E0A5-4E5D-80D7-50266CD0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6EC4D4-DA5A-4B31-BB56-8D9FC466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EF7422-26D7-470E-AE3D-ABAFC25C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D9A9F7-0397-403E-BD3C-A8987C30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C4DB8E-5BE6-4CB2-80D2-7806CBE4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34327-0B75-4F66-96DF-4216D5C8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BF8CC6-9A8F-482E-9E12-3FE26696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FA64D8-9C13-4EC8-A3EA-3D9A9A54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0D0773-A17B-4918-9B21-95953848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E342C3-6249-43C0-AD78-788C03D5D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249226-AAD8-4260-A7F4-3AAF709B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C3E779-0114-4E18-A38A-46589640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8CD87A-596C-4075-845B-3F4C0D21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DEC833-484C-407E-A232-326EC59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9F3890-B034-414E-B6E7-2F1E0FEC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0B2700-BCAC-40EC-B9B0-39167E75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6B802-55A8-4481-B8C0-E98B65A5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BD8C39-23BE-46E0-88A6-21EE338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45E5DC-8A28-4BD8-B20A-4F7EF799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9E518E-E83E-4AE0-9A31-B513DC34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84F999-B1DA-490C-B7F7-161F3C90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C29C8E-3CCB-437E-BADA-E03F3F7A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0E25E3-777D-4286-8E35-D2F6CA7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3F5A72-0A6D-4421-A7D7-706C295B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6AD692-E323-4FB8-848D-C24D3FDA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B7F885-884F-445E-AE82-971456AA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CA4D0A-D825-4F18-A61A-1EEC44A3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7345-E50A-4EA0-80DF-A0DB7D3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E49F37-14CA-49B8-B614-20BE1407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1744B5-1616-43FD-A45A-972C5A43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E94797-2747-4231-A292-303DBAC7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CB5919-0E60-4C3E-B0CA-9E89E208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E6C576-1913-4844-9EE4-4A25C0A2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DED574-1D51-4480-BD71-18F38F9D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A58E79-AE94-4890-B4FA-AD49367F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B93586-FC32-4664-9804-D1188809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AAFE95-CB19-43A6-8F21-D2E03E4A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BCF2ADE-052E-45CE-97AF-146D76FF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19C8-A264-4845-8449-B0BC6DB3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CF5142-29EA-4909-8F16-1CBCD58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57A399-C907-4ED2-AB91-858314F5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D0D41B-D673-4BF1-A470-5625E56C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16C376-FD2A-4965-BE22-E26A46FE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FC3B14-F211-4882-BAC3-245354B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302EFB-B698-493E-9168-55C6428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D648EB-A496-430E-B386-2AD79E13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95540B-7FC6-47FE-9C0C-741359CB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683730-3D0C-491F-990E-72554CD6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782F0A-21D3-43B5-9076-4CAD32FB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0B15-8827-4177-9C20-ABE7D1C8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563F1C-962A-4DA0-AE9A-CE2141FA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54BD31-C7DB-4A12-8AEF-F2CD875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4C8C24-6FEF-4F03-89CD-5745CD1E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951A6A-52A6-4DBE-A250-8C293A9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566738-827C-4EB5-ABAC-522D8F93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3DBFF0-0513-4C29-81BE-B825C03C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C31858-075E-4D94-BE83-23F08BE1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0BE8F-8C3D-40B6-9DEE-1F97CF7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4172EF-794E-4D8F-9F48-990364C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6F3B25-924B-4E15-933F-87A8C1B8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747E-4AFA-4528-899F-E2EE7E97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6F05E8-9602-40F7-AE8F-282F09AB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442FFA-7018-42CA-9186-49E85C61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193A22A-4767-443B-BF62-329810D0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075B7D-C1CA-4506-8DAE-B44D7D9D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EC663C-B358-4945-BA21-CCE118F1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2E1A0C-4427-4A35-90AA-398264F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1847E4-55F2-45BA-9CA7-2E99DD35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EBDFBD-B316-4777-B54D-AE4C78B5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F0F6EB-7959-4FE7-9D2A-CF59AE8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882A4F-4963-4831-AB16-B35C2043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4027B-F45A-4507-8B6A-0334D2BF0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58F597-D6A4-4AC8-BFBA-F0B12176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59F530-A2FA-46F9-912E-AB112869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861EF3-5B73-4C39-9F0A-B229453C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4E773-DAC0-4ECB-B7C6-F36D811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55B2A-AE2F-43B2-84FE-A4DE4449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8F9-5F43-4F6A-80D3-53B6A76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B77F1-240B-4A53-B928-742EF266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1225E-F716-476C-A4E8-337C80CE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9659-B461-4402-8163-6F6077AD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5133A-EC1F-4B64-86FE-06A7B3C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A48F-E65A-4615-9719-E99AA4B6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52425-0D4D-43B5-9824-AFA91F89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BA564-157E-4015-BDF5-FAC76D06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570B3-AB52-4C03-AD95-9C4E69F6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5A6D-BA7A-45B9-BE6B-DC5DD97B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03670-3E1B-4005-AFFA-7171293B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1D3-C9D6-4F5F-B53C-3658FB8A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6981-7AE6-4AB3-A7D5-12C6A7D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11EE-CFC9-454B-8169-5161A831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149FD-31B6-4AE1-9A9C-64279EC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A5CF0-0BD1-42AC-8C36-BEF8A28E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FA77-7CD3-490C-BC6D-55287A9F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94EC2-75AE-4140-9081-2F129E4D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5955E-FA30-4882-8A7C-F31BBC7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4D9D9-62F8-454F-9F4B-1891041C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032BF-334E-448F-A700-B37A14B5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57A6-99F2-4649-936E-E71E940A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0F9-B4A8-40A0-98C0-6F7640D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7665D-5CB5-4331-BEE3-C96E9C273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635B-B0F7-40E3-872F-6145932B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06963-514D-4F3A-9E43-2DAF9DDF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B92E2-AD52-42B4-A32F-273007E6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62F9-3158-4988-A524-CFB45016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017A4-FEA5-4953-8341-FA51B24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3CEB7-2CBF-4EF3-B5AF-D4D2D15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D6A1C-8002-4309-8FFE-C2993B01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B444-C29B-4E72-B9B9-FD62DF8E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32E9A-7B67-4320-B467-FAEBC7C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FA9-F9FA-42CD-908A-2910B6E9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D93CD-F52B-4CB4-B73A-406D00CE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1AC7D-10D1-454C-8264-E7F49BE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C5E63-833F-482C-9957-2C8937261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76EC0-37C8-47B6-855D-28199D45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7CDA7-1E6C-4C3A-9B8C-4114542F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EDF51-8C1B-4CE8-9967-EF2DBD88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63182-E8D8-4888-8066-E8754613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9C2A9-0CB2-471C-9562-745F709B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D27B5-F3AC-437B-B271-6A16AE8C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02F56-8715-4625-A9A9-FC16B60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A76-5BD8-4336-A052-2F113B95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1F4D-11B8-4626-B294-048AB71B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248CC-0BEA-4E8D-8935-98C93FAC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E8A7F-B581-4174-8E92-DC8C130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1462F-A5C0-4040-AF9D-A2FCB6B8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7E36A-F3DF-410B-A29C-AAF71EB8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15E2A-564E-47E4-9335-86CAA3FA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16C0A-F924-4F6D-934E-01A9A07B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8A51-55D1-4630-ADAB-AED7740A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4D363-CE37-435F-9934-43B4F007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8B1AC-6DC6-4066-AEEC-FF7873B4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35F-CF0D-4223-B829-EF804764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A1544-B3B9-413C-B6BE-C91E36F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30990-1D4B-409B-BF5F-555F6EE6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C73AB-4E24-4DAA-BAE1-1430698C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1265C-4CC1-43CF-8037-6AE9F955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EF468-43A2-4C09-9F8E-055E891F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6B0E2-CB35-4BC9-AF8A-CCA01D88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C3A27-5541-4AD7-AF38-EA719251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8669D-1D25-41A7-A1B2-AC7E3A7A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DCF04-F375-4409-BDE1-574FD977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4644D-BDC6-48BD-B4FD-25D7AFA7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2D52-9EC6-40D7-A088-442F506E4D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DEF1-C50A-44CE-955A-F385435206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1734-E652-4ACB-8DFB-6029F9F831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1187-5205-4341-90A4-5EB3D514AD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74E1-7276-4C8F-BC43-34520370A3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810-EC3F-4FF4-A475-6DB586B213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D569-6AA5-4C53-8AAC-552F39918D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4AB-19A8-414D-9B7D-8ADD17509B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8076-9063-453B-9E5F-C305C07784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1B0-A685-42E1-B9AF-A951E695C2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595D-74FD-493D-8F67-C26420A7ED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19AD-4FC0-4A4B-93E9-2FBD5B368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DA3-5607-46AF-A4CE-CA13F2D4C4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1331-7BF2-4B2A-B39F-261B6D7975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6F7-2266-4276-83C2-99242FA43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BCF-B2C2-4EE8-9DFE-7A0382C4F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0C5-E37D-473B-9649-FAAC21205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771-2996-4F05-BE11-CA699B0C3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967B-B8E9-4496-B5EB-A227399C29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4ADF-CF96-4DAB-91C9-6D51B72A5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C682-EF5D-4075-AA5C-3A5792C86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097-1406-42A3-9D2A-E868222002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F043-BEF7-4732-891A-471172863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6583-CDA4-43FF-A695-2080FA5F4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B111-B7FE-43CC-B6A3-0EE642152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1FBC-DC23-46AF-AD11-12F680E20E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D8D8-AA45-4782-8707-E12CDCAEDA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C5ED-EA1B-4B16-ACD1-3C63751770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270D-178F-4B97-910F-4F2448D58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2428-42BB-4D53-8613-5F3DC6D41A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C3C7-4476-44AE-B1AA-7854B046D6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106D-0042-4CBD-A963-EF6B973BF4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27EA-D9C2-4E81-B06A-B54539358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67F-EC86-450F-9F74-1DC0474C7D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42C-7F63-4B44-80C6-86AC6649AB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946-AB10-4F8D-8F2F-7CA0F87EC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4B6E-34DE-4711-AAF5-29BF03529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0C18-B190-4666-BCB2-7FB71912F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4CDC-2E89-4342-B499-D8CE80C1BD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AE10-61F0-44D1-BE16-400633701F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4FD3-3C09-4CE3-85B2-B85F09926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3A4E-978F-4FCF-AA06-48E26C5D2B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A74E-0563-450A-B8D6-3CE68E688F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3E80-F8D7-4740-8EB6-7F316433A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8DBE-4009-47CB-A0AA-1A183F5A72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CCE3-A5E1-462B-A40A-4D5761318A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0DAB-735A-4AEF-B493-34E482451D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7EE7-2EC8-4C97-AD70-8F76BE48F5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B5AE-81AB-4196-B93D-B4F5B532C3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4217-957F-4BB8-A120-CD407B9620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2536920" y="1082520"/>
            <a:ext cx="3867120" cy="13147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2879640" y="2989440"/>
            <a:ext cx="3029040" cy="364788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3914640" y="5989680"/>
            <a:ext cx="2148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矩形 40987"/>
          <p:cNvSpPr/>
          <p:nvPr/>
        </p:nvSpPr>
        <p:spPr>
          <a:xfrm>
            <a:off x="2732040" y="6359400"/>
            <a:ext cx="21477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5" name="图片 132097" descr=""/>
          <p:cNvPicPr/>
          <p:nvPr/>
        </p:nvPicPr>
        <p:blipFill>
          <a:blip r:embed="rId1"/>
          <a:stretch/>
        </p:blipFill>
        <p:spPr>
          <a:xfrm>
            <a:off x="144360" y="852480"/>
            <a:ext cx="8296200" cy="4848120"/>
          </a:xfrm>
          <a:prstGeom prst="rect">
            <a:avLst/>
          </a:prstGeom>
          <a:ln w="0">
            <a:noFill/>
          </a:ln>
        </p:spPr>
      </p:pic>
      <p:sp>
        <p:nvSpPr>
          <p:cNvPr id="1386" name="矩形 132098"/>
          <p:cNvSpPr/>
          <p:nvPr/>
        </p:nvSpPr>
        <p:spPr>
          <a:xfrm>
            <a:off x="841320" y="4602240"/>
            <a:ext cx="76248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2099"/>
          <p:cNvSpPr/>
          <p:nvPr/>
        </p:nvSpPr>
        <p:spPr>
          <a:xfrm>
            <a:off x="830160" y="5249880"/>
            <a:ext cx="76248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图片 131073" descr=""/>
          <p:cNvPicPr/>
          <p:nvPr/>
        </p:nvPicPr>
        <p:blipFill>
          <a:blip r:embed="rId1"/>
          <a:stretch/>
        </p:blipFill>
        <p:spPr>
          <a:xfrm>
            <a:off x="687240" y="996840"/>
            <a:ext cx="7439040" cy="2324160"/>
          </a:xfrm>
          <a:prstGeom prst="rect">
            <a:avLst/>
          </a:prstGeom>
          <a:ln w="0">
            <a:noFill/>
          </a:ln>
        </p:spPr>
      </p:pic>
      <p:sp>
        <p:nvSpPr>
          <p:cNvPr id="1389" name="矩形 131074"/>
          <p:cNvSpPr/>
          <p:nvPr/>
        </p:nvSpPr>
        <p:spPr>
          <a:xfrm>
            <a:off x="708120" y="1008000"/>
            <a:ext cx="6338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1075"/>
          <p:cNvSpPr/>
          <p:nvPr/>
        </p:nvSpPr>
        <p:spPr>
          <a:xfrm>
            <a:off x="585720" y="1603440"/>
            <a:ext cx="63388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1076"/>
          <p:cNvSpPr/>
          <p:nvPr/>
        </p:nvSpPr>
        <p:spPr>
          <a:xfrm>
            <a:off x="544680" y="2230560"/>
            <a:ext cx="809460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1077"/>
          <p:cNvSpPr/>
          <p:nvPr/>
        </p:nvSpPr>
        <p:spPr>
          <a:xfrm>
            <a:off x="369720" y="2887560"/>
            <a:ext cx="809496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图片 130049" descr=""/>
          <p:cNvPicPr/>
          <p:nvPr/>
        </p:nvPicPr>
        <p:blipFill>
          <a:blip r:embed="rId1"/>
          <a:stretch/>
        </p:blipFill>
        <p:spPr>
          <a:xfrm>
            <a:off x="369720" y="890640"/>
            <a:ext cx="759168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4" name="图片 129025" descr=""/>
          <p:cNvPicPr/>
          <p:nvPr/>
        </p:nvPicPr>
        <p:blipFill>
          <a:blip r:embed="rId1"/>
          <a:stretch/>
        </p:blipFill>
        <p:spPr>
          <a:xfrm>
            <a:off x="774720" y="917640"/>
            <a:ext cx="7543800" cy="4819680"/>
          </a:xfrm>
          <a:prstGeom prst="rect">
            <a:avLst/>
          </a:prstGeom>
          <a:ln w="0">
            <a:noFill/>
          </a:ln>
        </p:spPr>
      </p:pic>
      <p:sp>
        <p:nvSpPr>
          <p:cNvPr id="1395" name="矩形 129026"/>
          <p:cNvSpPr/>
          <p:nvPr/>
        </p:nvSpPr>
        <p:spPr>
          <a:xfrm>
            <a:off x="739800" y="1522440"/>
            <a:ext cx="50338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9027"/>
          <p:cNvSpPr/>
          <p:nvPr/>
        </p:nvSpPr>
        <p:spPr>
          <a:xfrm>
            <a:off x="574560" y="2149560"/>
            <a:ext cx="50342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9028"/>
          <p:cNvSpPr/>
          <p:nvPr/>
        </p:nvSpPr>
        <p:spPr>
          <a:xfrm>
            <a:off x="677880" y="275580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矩形 129029"/>
          <p:cNvSpPr/>
          <p:nvPr/>
        </p:nvSpPr>
        <p:spPr>
          <a:xfrm>
            <a:off x="533520" y="338292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9030"/>
          <p:cNvSpPr/>
          <p:nvPr/>
        </p:nvSpPr>
        <p:spPr>
          <a:xfrm>
            <a:off x="533520" y="4051440"/>
            <a:ext cx="78897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9031"/>
          <p:cNvSpPr/>
          <p:nvPr/>
        </p:nvSpPr>
        <p:spPr>
          <a:xfrm>
            <a:off x="563400" y="4678200"/>
            <a:ext cx="789012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9032"/>
          <p:cNvSpPr/>
          <p:nvPr/>
        </p:nvSpPr>
        <p:spPr>
          <a:xfrm>
            <a:off x="563400" y="5275440"/>
            <a:ext cx="78901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5" name="图片 140289" descr=""/>
          <p:cNvPicPr/>
          <p:nvPr/>
        </p:nvPicPr>
        <p:blipFill>
          <a:blip r:embed="rId1"/>
          <a:stretch/>
        </p:blipFill>
        <p:spPr>
          <a:xfrm>
            <a:off x="357120" y="1054080"/>
            <a:ext cx="8505720" cy="3276720"/>
          </a:xfrm>
          <a:prstGeom prst="rect">
            <a:avLst/>
          </a:prstGeom>
          <a:ln w="0">
            <a:noFill/>
          </a:ln>
        </p:spPr>
      </p:pic>
      <p:sp>
        <p:nvSpPr>
          <p:cNvPr id="1336" name="矩形 140290"/>
          <p:cNvSpPr/>
          <p:nvPr/>
        </p:nvSpPr>
        <p:spPr>
          <a:xfrm>
            <a:off x="6246720" y="1849320"/>
            <a:ext cx="843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40291"/>
          <p:cNvSpPr/>
          <p:nvPr/>
        </p:nvSpPr>
        <p:spPr>
          <a:xfrm>
            <a:off x="884160" y="2270160"/>
            <a:ext cx="8431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40292"/>
          <p:cNvSpPr/>
          <p:nvPr/>
        </p:nvSpPr>
        <p:spPr>
          <a:xfrm>
            <a:off x="3575160" y="3103560"/>
            <a:ext cx="657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40293"/>
          <p:cNvSpPr/>
          <p:nvPr/>
        </p:nvSpPr>
        <p:spPr>
          <a:xfrm>
            <a:off x="6945480" y="3103560"/>
            <a:ext cx="657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40294"/>
          <p:cNvSpPr/>
          <p:nvPr/>
        </p:nvSpPr>
        <p:spPr>
          <a:xfrm>
            <a:off x="3000240" y="3535200"/>
            <a:ext cx="657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5"/>
          <p:cNvSpPr/>
          <p:nvPr/>
        </p:nvSpPr>
        <p:spPr>
          <a:xfrm>
            <a:off x="7273800" y="3525840"/>
            <a:ext cx="728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6"/>
          <p:cNvSpPr/>
          <p:nvPr/>
        </p:nvSpPr>
        <p:spPr>
          <a:xfrm>
            <a:off x="3186000" y="3957480"/>
            <a:ext cx="44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7"/>
          <p:cNvSpPr/>
          <p:nvPr/>
        </p:nvSpPr>
        <p:spPr>
          <a:xfrm>
            <a:off x="5251320" y="3957480"/>
            <a:ext cx="4431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9265" descr=""/>
          <p:cNvPicPr/>
          <p:nvPr/>
        </p:nvPicPr>
        <p:blipFill>
          <a:blip r:embed="rId1"/>
          <a:stretch/>
        </p:blipFill>
        <p:spPr>
          <a:xfrm>
            <a:off x="314280" y="839880"/>
            <a:ext cx="8515440" cy="4543200"/>
          </a:xfrm>
          <a:prstGeom prst="rect">
            <a:avLst/>
          </a:prstGeom>
          <a:ln w="0">
            <a:noFill/>
          </a:ln>
        </p:spPr>
      </p:pic>
      <p:sp>
        <p:nvSpPr>
          <p:cNvPr id="1345" name="矩形 139266"/>
          <p:cNvSpPr/>
          <p:nvPr/>
        </p:nvSpPr>
        <p:spPr>
          <a:xfrm>
            <a:off x="8250120" y="167472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9267"/>
          <p:cNvSpPr/>
          <p:nvPr/>
        </p:nvSpPr>
        <p:spPr>
          <a:xfrm>
            <a:off x="8271000" y="289728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9268"/>
          <p:cNvSpPr/>
          <p:nvPr/>
        </p:nvSpPr>
        <p:spPr>
          <a:xfrm>
            <a:off x="8280360" y="421308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矩形 139269"/>
          <p:cNvSpPr/>
          <p:nvPr/>
        </p:nvSpPr>
        <p:spPr>
          <a:xfrm>
            <a:off x="255744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9270"/>
          <p:cNvSpPr/>
          <p:nvPr/>
        </p:nvSpPr>
        <p:spPr>
          <a:xfrm>
            <a:off x="510552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71"/>
          <p:cNvSpPr/>
          <p:nvPr/>
        </p:nvSpPr>
        <p:spPr>
          <a:xfrm>
            <a:off x="8055000" y="500364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1" name="图片 138241" descr=""/>
          <p:cNvPicPr/>
          <p:nvPr/>
        </p:nvPicPr>
        <p:blipFill>
          <a:blip r:embed="rId1"/>
          <a:stretch/>
        </p:blipFill>
        <p:spPr>
          <a:xfrm>
            <a:off x="458640" y="825480"/>
            <a:ext cx="7743960" cy="2666880"/>
          </a:xfrm>
          <a:prstGeom prst="rect">
            <a:avLst/>
          </a:prstGeom>
          <a:ln w="0">
            <a:noFill/>
          </a:ln>
        </p:spPr>
      </p:pic>
      <p:pic>
        <p:nvPicPr>
          <p:cNvPr id="1352" name="图片 13824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6124320" cy="2057400"/>
          </a:xfrm>
          <a:prstGeom prst="rect">
            <a:avLst/>
          </a:prstGeom>
          <a:ln w="0">
            <a:noFill/>
          </a:ln>
        </p:spPr>
      </p:pic>
      <p:sp>
        <p:nvSpPr>
          <p:cNvPr id="1353" name="矩形 138243"/>
          <p:cNvSpPr/>
          <p:nvPr/>
        </p:nvSpPr>
        <p:spPr>
          <a:xfrm>
            <a:off x="5589720" y="873000"/>
            <a:ext cx="5968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8244"/>
          <p:cNvSpPr/>
          <p:nvPr/>
        </p:nvSpPr>
        <p:spPr>
          <a:xfrm>
            <a:off x="3349800" y="143820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8245"/>
          <p:cNvSpPr/>
          <p:nvPr/>
        </p:nvSpPr>
        <p:spPr>
          <a:xfrm>
            <a:off x="7202520" y="1438200"/>
            <a:ext cx="596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8246"/>
          <p:cNvSpPr/>
          <p:nvPr/>
        </p:nvSpPr>
        <p:spPr>
          <a:xfrm>
            <a:off x="668160" y="2711520"/>
            <a:ext cx="25592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8247"/>
          <p:cNvSpPr/>
          <p:nvPr/>
        </p:nvSpPr>
        <p:spPr>
          <a:xfrm>
            <a:off x="638280" y="320364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8248"/>
          <p:cNvSpPr/>
          <p:nvPr/>
        </p:nvSpPr>
        <p:spPr>
          <a:xfrm>
            <a:off x="4551480" y="273060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8249"/>
          <p:cNvSpPr/>
          <p:nvPr/>
        </p:nvSpPr>
        <p:spPr>
          <a:xfrm>
            <a:off x="4633920" y="3151080"/>
            <a:ext cx="25588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50"/>
          <p:cNvSpPr/>
          <p:nvPr/>
        </p:nvSpPr>
        <p:spPr>
          <a:xfrm>
            <a:off x="576360" y="5186520"/>
            <a:ext cx="301140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51"/>
          <p:cNvSpPr/>
          <p:nvPr/>
        </p:nvSpPr>
        <p:spPr>
          <a:xfrm>
            <a:off x="1346040" y="5873760"/>
            <a:ext cx="1490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52"/>
          <p:cNvSpPr/>
          <p:nvPr/>
        </p:nvSpPr>
        <p:spPr>
          <a:xfrm>
            <a:off x="4346640" y="5043600"/>
            <a:ext cx="3011400" cy="54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53"/>
          <p:cNvSpPr/>
          <p:nvPr/>
        </p:nvSpPr>
        <p:spPr>
          <a:xfrm>
            <a:off x="5332320" y="5773680"/>
            <a:ext cx="1522440" cy="544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7217" descr=""/>
          <p:cNvPicPr/>
          <p:nvPr/>
        </p:nvPicPr>
        <p:blipFill>
          <a:blip r:embed="rId1"/>
          <a:stretch/>
        </p:blipFill>
        <p:spPr>
          <a:xfrm>
            <a:off x="311040" y="906480"/>
            <a:ext cx="8115480" cy="547668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7218"/>
          <p:cNvSpPr/>
          <p:nvPr/>
        </p:nvSpPr>
        <p:spPr>
          <a:xfrm>
            <a:off x="7662960" y="22305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7219"/>
          <p:cNvSpPr/>
          <p:nvPr/>
        </p:nvSpPr>
        <p:spPr>
          <a:xfrm>
            <a:off x="7662960" y="47181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6193" descr=""/>
          <p:cNvPicPr/>
          <p:nvPr/>
        </p:nvPicPr>
        <p:blipFill>
          <a:blip r:embed="rId1"/>
          <a:stretch/>
        </p:blipFill>
        <p:spPr>
          <a:xfrm>
            <a:off x="210960" y="777960"/>
            <a:ext cx="7934400" cy="603864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6194"/>
          <p:cNvSpPr/>
          <p:nvPr/>
        </p:nvSpPr>
        <p:spPr>
          <a:xfrm>
            <a:off x="3749760" y="1500120"/>
            <a:ext cx="5349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6195"/>
          <p:cNvSpPr/>
          <p:nvPr/>
        </p:nvSpPr>
        <p:spPr>
          <a:xfrm>
            <a:off x="7068960" y="6288120"/>
            <a:ext cx="5353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图片 135169" descr=""/>
          <p:cNvPicPr/>
          <p:nvPr/>
        </p:nvPicPr>
        <p:blipFill>
          <a:blip r:embed="rId1"/>
          <a:stretch/>
        </p:blipFill>
        <p:spPr>
          <a:xfrm>
            <a:off x="166680" y="922320"/>
            <a:ext cx="7819920" cy="3514680"/>
          </a:xfrm>
          <a:prstGeom prst="rect">
            <a:avLst/>
          </a:prstGeom>
          <a:ln w="0">
            <a:noFill/>
          </a:ln>
        </p:spPr>
      </p:pic>
      <p:sp>
        <p:nvSpPr>
          <p:cNvPr id="1371" name="矩形 135170"/>
          <p:cNvSpPr/>
          <p:nvPr/>
        </p:nvSpPr>
        <p:spPr>
          <a:xfrm>
            <a:off x="770040" y="2752560"/>
            <a:ext cx="30826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5171"/>
          <p:cNvSpPr/>
          <p:nvPr/>
        </p:nvSpPr>
        <p:spPr>
          <a:xfrm>
            <a:off x="358920" y="3801960"/>
            <a:ext cx="3082680" cy="409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5172"/>
          <p:cNvSpPr/>
          <p:nvPr/>
        </p:nvSpPr>
        <p:spPr>
          <a:xfrm>
            <a:off x="4386240" y="2610000"/>
            <a:ext cx="3586320" cy="75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5173"/>
          <p:cNvSpPr/>
          <p:nvPr/>
        </p:nvSpPr>
        <p:spPr>
          <a:xfrm>
            <a:off x="5516640" y="3627360"/>
            <a:ext cx="1439640" cy="75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图片 134145" descr=""/>
          <p:cNvPicPr/>
          <p:nvPr/>
        </p:nvPicPr>
        <p:blipFill>
          <a:blip r:embed="rId1"/>
          <a:stretch/>
        </p:blipFill>
        <p:spPr>
          <a:xfrm>
            <a:off x="563400" y="927000"/>
            <a:ext cx="7382160" cy="2590920"/>
          </a:xfrm>
          <a:prstGeom prst="rect">
            <a:avLst/>
          </a:prstGeom>
          <a:ln w="0">
            <a:noFill/>
          </a:ln>
        </p:spPr>
      </p:pic>
      <p:sp>
        <p:nvSpPr>
          <p:cNvPr id="1376" name="矩形 134146"/>
          <p:cNvSpPr/>
          <p:nvPr/>
        </p:nvSpPr>
        <p:spPr>
          <a:xfrm>
            <a:off x="471600" y="1911240"/>
            <a:ext cx="366876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4147"/>
          <p:cNvSpPr/>
          <p:nvPr/>
        </p:nvSpPr>
        <p:spPr>
          <a:xfrm>
            <a:off x="1746360" y="2990880"/>
            <a:ext cx="10062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4148"/>
          <p:cNvSpPr/>
          <p:nvPr/>
        </p:nvSpPr>
        <p:spPr>
          <a:xfrm>
            <a:off x="4314960" y="2166840"/>
            <a:ext cx="3906720" cy="439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4149"/>
          <p:cNvSpPr/>
          <p:nvPr/>
        </p:nvSpPr>
        <p:spPr>
          <a:xfrm>
            <a:off x="5024520" y="2948040"/>
            <a:ext cx="2016000" cy="43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图片 133121" descr=""/>
          <p:cNvPicPr/>
          <p:nvPr/>
        </p:nvPicPr>
        <p:blipFill>
          <a:blip r:embed="rId1"/>
          <a:stretch/>
        </p:blipFill>
        <p:spPr>
          <a:xfrm>
            <a:off x="209520" y="890640"/>
            <a:ext cx="7962840" cy="2562120"/>
          </a:xfrm>
          <a:prstGeom prst="rect">
            <a:avLst/>
          </a:prstGeom>
          <a:ln w="0">
            <a:noFill/>
          </a:ln>
        </p:spPr>
      </p:pic>
      <p:pic>
        <p:nvPicPr>
          <p:cNvPr id="1381" name="图片 133122" descr=""/>
          <p:cNvPicPr/>
          <p:nvPr/>
        </p:nvPicPr>
        <p:blipFill>
          <a:blip r:embed="rId2"/>
          <a:stretch/>
        </p:blipFill>
        <p:spPr>
          <a:xfrm>
            <a:off x="808200" y="4027320"/>
            <a:ext cx="7476840" cy="2333880"/>
          </a:xfrm>
          <a:prstGeom prst="rect">
            <a:avLst/>
          </a:prstGeom>
          <a:ln w="0">
            <a:noFill/>
          </a:ln>
        </p:spPr>
      </p:pic>
      <p:sp>
        <p:nvSpPr>
          <p:cNvPr id="1382" name="矩形 133123"/>
          <p:cNvSpPr/>
          <p:nvPr/>
        </p:nvSpPr>
        <p:spPr>
          <a:xfrm>
            <a:off x="1273320" y="2579760"/>
            <a:ext cx="4943160" cy="80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3124"/>
          <p:cNvSpPr/>
          <p:nvPr/>
        </p:nvSpPr>
        <p:spPr>
          <a:xfrm>
            <a:off x="1252440" y="5240160"/>
            <a:ext cx="540540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3125"/>
          <p:cNvSpPr/>
          <p:nvPr/>
        </p:nvSpPr>
        <p:spPr>
          <a:xfrm>
            <a:off x="1293840" y="5877000"/>
            <a:ext cx="5405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30T08:26:21Z</dcterms:modified>
  <cp:revision>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